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7163-D1B9-4FF2-8223-EA9B37955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4F87-E0C2-4075-BBBD-F9A6B0789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B654-AAD2-4CEC-81E6-2B0C0F466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EA66-5172-4A68-855C-E6A9FC0DA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AB9BF-4D1E-471D-8814-3E378EDE8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1517B-6227-4263-AAFB-E31E2E8F0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92477-3467-469D-9F7A-27C385CD9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689F3-1034-484F-844D-1A7529A47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33BF1-DA28-49CB-99EC-35743735A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C9FC0-9B10-4ED8-991C-03A85F581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08536-59FD-4A15-BA77-A6DA621F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7BD5-06C3-46A0-982B-DAC7213E3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E0F47-20EA-4E27-A072-4E79329A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143B5-B823-4B70-B4BB-AAA40631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B3BC1-DD70-45E1-98CB-0E97ED8C3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79533-F560-48D6-8628-5D5C3E710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FEAE5-4A32-4EF8-9D8C-8EDD1696C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B6A4-498C-4F46-9018-749460A26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18BB-28FB-40BC-80A9-9AC303EE5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4088-0B9D-4503-A2DE-4A5F7D9C7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064E-B80D-4FC9-BA69-9387BC463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CE20-160D-4FD5-A2F4-5573CC7C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65D3-ABAD-468B-B553-FFBB24D8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F7A9-DE5F-4C2D-A9E3-6FCD246A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964DE-1223-4CFC-B74F-A90FCDC85C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A0A84-E3BA-4D74-B6C4-C6E48F0455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057400" y="38095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Mr. Obama’s Spee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7000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Great Spee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watched the President’s spee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wards, we made goal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e are our combined goal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7000">
    <p:diamond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 to dr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sit my grandfather in New York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 to sew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a job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sit Las Ve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7000">
    <p:diamond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75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75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75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75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75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75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75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75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75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75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adem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 to read and understand better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 more Science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 to use a calculator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a better writer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more experiment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7000">
    <p:diamond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3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un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 to the park m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 bowling m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 more about my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a better swim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 to the be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p to keep my community cl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7000">
    <p:diamond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75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75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75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75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75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75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n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ect our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 to an e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sit St. Louis, Missou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y in the USA (born elsewhe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 about my new cou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7000">
    <p:diamond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nk you for reading our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17:02:04Z</dcterms:created>
  <dc:creator>Teacher PLMS</dc:creator>
  <dc:description/>
  <dc:language>en-US</dc:language>
  <cp:lastModifiedBy>Teacher PLMS</cp:lastModifiedBy>
  <dcterms:modified xsi:type="dcterms:W3CDTF">2009-09-11T16:52:30Z</dcterms:modified>
  <cp:revision>26</cp:revision>
  <dc:subject/>
  <dc:title>Goals</dc:title>
</cp:coreProperties>
</file>